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213-7A81-4A96-8377-DFDA3231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7AA-86A7-4D89-85FE-084DBC93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C23-7475-488F-A75A-F80F843F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6AB-5B6A-4A57-B08D-46FCE9DB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4D-C483-45EB-8CB0-F35C67E8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A6E-A848-44CE-85FD-C1041A2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DE5-7EA0-4BA2-BED3-911E630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AC4-3F36-47D8-BF79-5C448F0F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9E6-B4DA-42FD-89AF-11B387F9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2CD-3F89-47E1-B2BB-B92F1DF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53B-131B-4539-BD42-8041DFD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497-520C-42A3-B900-2548BD7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647-9AFC-49A9-AD8B-1F581A0E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arm-up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Complete each function tabl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330280" y="4867200"/>
            <a:ext cx="411480" cy="241200"/>
          </a:xfrm>
          <a:custGeom>
            <a:avLst/>
            <a:gdLst/>
            <a:ahLst/>
            <a:rect l="l" t="t" r="r" b="b"/>
            <a:pathLst>
              <a:path w="1142" h="670">
                <a:moveTo>
                  <a:pt x="6474" y="13841"/>
                </a:moveTo>
                <a:cubicBezTo>
                  <a:pt x="6620" y="13799"/>
                  <a:pt x="6775" y="13786"/>
                  <a:pt x="6921" y="13742"/>
                </a:cubicBezTo>
                <a:cubicBezTo>
                  <a:pt x="6937" y="13734"/>
                  <a:pt x="6954" y="13725"/>
                  <a:pt x="6970" y="13717"/>
                </a:cubicBezTo>
              </a:path>
              <a:path w="1142" h="670">
                <a:moveTo>
                  <a:pt x="6672" y="13519"/>
                </a:moveTo>
                <a:lnTo>
                  <a:pt x="6672" y="13519"/>
                </a:lnTo>
              </a:path>
              <a:path w="1142" h="670">
                <a:moveTo>
                  <a:pt x="6747" y="13965"/>
                </a:moveTo>
                <a:lnTo>
                  <a:pt x="6747" y="13965"/>
                </a:lnTo>
              </a:path>
              <a:path w="1142" h="670">
                <a:moveTo>
                  <a:pt x="7169" y="13568"/>
                </a:moveTo>
                <a:cubicBezTo>
                  <a:pt x="7187" y="13774"/>
                  <a:pt x="7203" y="13981"/>
                  <a:pt x="7218" y="14188"/>
                </a:cubicBezTo>
                <a:cubicBezTo>
                  <a:pt x="7218" y="14172"/>
                  <a:pt x="7218" y="14155"/>
                  <a:pt x="7218" y="14139"/>
                </a:cubicBezTo>
              </a:path>
              <a:path w="1142" h="670">
                <a:moveTo>
                  <a:pt x="7491" y="13519"/>
                </a:moveTo>
                <a:cubicBezTo>
                  <a:pt x="7545" y="13648"/>
                  <a:pt x="7588" y="13760"/>
                  <a:pt x="7615" y="13891"/>
                </a:cubicBezTo>
                <a:cubicBezTo>
                  <a:pt x="7615" y="13899"/>
                  <a:pt x="7615" y="13907"/>
                  <a:pt x="7615" y="13915"/>
                </a:cubicBezTo>
              </a:path>
              <a:path w="1142" h="670">
                <a:moveTo>
                  <a:pt x="7565" y="13791"/>
                </a:moveTo>
                <a:cubicBezTo>
                  <a:pt x="7565" y="13750"/>
                  <a:pt x="7565" y="13708"/>
                  <a:pt x="7565" y="13667"/>
                </a:cubicBezTo>
                <a:cubicBezTo>
                  <a:pt x="7595" y="13815"/>
                  <a:pt x="7590" y="13961"/>
                  <a:pt x="7590" y="14114"/>
                </a:cubicBezTo>
                <a:cubicBezTo>
                  <a:pt x="7590" y="14147"/>
                  <a:pt x="7590" y="14163"/>
                  <a:pt x="7590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24120" y="3394080"/>
            <a:ext cx="15084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7913" y="9426"/>
                </a:moveTo>
                <a:cubicBezTo>
                  <a:pt x="7859" y="9443"/>
                  <a:pt x="7643" y="9455"/>
                  <a:pt x="7615" y="9500"/>
                </a:cubicBezTo>
                <a:cubicBezTo>
                  <a:pt x="7581" y="9555"/>
                  <a:pt x="7572" y="9659"/>
                  <a:pt x="7565" y="9723"/>
                </a:cubicBezTo>
                <a:cubicBezTo>
                  <a:pt x="7656" y="9716"/>
                  <a:pt x="7836" y="9649"/>
                  <a:pt x="7913" y="9723"/>
                </a:cubicBezTo>
                <a:cubicBezTo>
                  <a:pt x="8031" y="9837"/>
                  <a:pt x="7986" y="9996"/>
                  <a:pt x="7838" y="10046"/>
                </a:cubicBezTo>
                <a:cubicBezTo>
                  <a:pt x="7713" y="10067"/>
                  <a:pt x="7686" y="10083"/>
                  <a:pt x="7615" y="100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4320" y="421488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8062" y="11708"/>
                </a:moveTo>
                <a:cubicBezTo>
                  <a:pt x="8018" y="11762"/>
                  <a:pt x="8098" y="11971"/>
                  <a:pt x="8136" y="12105"/>
                </a:cubicBezTo>
                <a:cubicBezTo>
                  <a:pt x="8144" y="12130"/>
                  <a:pt x="8153" y="12154"/>
                  <a:pt x="8161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5920" y="4795920"/>
            <a:ext cx="428400" cy="214200"/>
          </a:xfrm>
          <a:custGeom>
            <a:avLst/>
            <a:gdLst/>
            <a:ahLst/>
            <a:rect l="l" t="t" r="r" b="b"/>
            <a:pathLst>
              <a:path w="1192" h="596">
                <a:moveTo>
                  <a:pt x="13519" y="13494"/>
                </a:moveTo>
                <a:cubicBezTo>
                  <a:pt x="13504" y="13638"/>
                  <a:pt x="13482" y="13776"/>
                  <a:pt x="13444" y="13915"/>
                </a:cubicBezTo>
              </a:path>
              <a:path w="1192" h="596">
                <a:moveTo>
                  <a:pt x="13320" y="13692"/>
                </a:moveTo>
                <a:cubicBezTo>
                  <a:pt x="13479" y="13684"/>
                  <a:pt x="13633" y="13654"/>
                  <a:pt x="13791" y="13643"/>
                </a:cubicBezTo>
              </a:path>
              <a:path w="1192" h="596">
                <a:moveTo>
                  <a:pt x="13965" y="13320"/>
                </a:moveTo>
                <a:cubicBezTo>
                  <a:pt x="13965" y="13452"/>
                  <a:pt x="13961" y="13588"/>
                  <a:pt x="13940" y="13717"/>
                </a:cubicBezTo>
                <a:cubicBezTo>
                  <a:pt x="13932" y="13750"/>
                  <a:pt x="13923" y="13783"/>
                  <a:pt x="13915" y="13816"/>
                </a:cubicBezTo>
                <a:cubicBezTo>
                  <a:pt x="14090" y="13884"/>
                  <a:pt x="14177" y="13914"/>
                  <a:pt x="14362" y="13841"/>
                </a:cubicBezTo>
                <a:cubicBezTo>
                  <a:pt x="14455" y="13794"/>
                  <a:pt x="14484" y="13784"/>
                  <a:pt x="14511" y="13717"/>
                </a:cubicBezTo>
                <a:cubicBezTo>
                  <a:pt x="14442" y="13647"/>
                  <a:pt x="14330" y="13634"/>
                  <a:pt x="14238" y="13717"/>
                </a:cubicBezTo>
                <a:cubicBezTo>
                  <a:pt x="14186" y="13764"/>
                  <a:pt x="14216" y="13823"/>
                  <a:pt x="14238" y="138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05160" y="3384720"/>
            <a:ext cx="268560" cy="14256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11733" y="9426"/>
                </a:moveTo>
                <a:cubicBezTo>
                  <a:pt x="11851" y="9402"/>
                  <a:pt x="11857" y="9377"/>
                  <a:pt x="11931" y="9451"/>
                </a:cubicBezTo>
                <a:cubicBezTo>
                  <a:pt x="11876" y="9545"/>
                  <a:pt x="11827" y="9584"/>
                  <a:pt x="11733" y="9649"/>
                </a:cubicBezTo>
                <a:cubicBezTo>
                  <a:pt x="11793" y="9616"/>
                  <a:pt x="12003" y="9495"/>
                  <a:pt x="11981" y="9674"/>
                </a:cubicBezTo>
                <a:cubicBezTo>
                  <a:pt x="11969" y="9774"/>
                  <a:pt x="11751" y="9861"/>
                  <a:pt x="11683" y="9773"/>
                </a:cubicBezTo>
                <a:cubicBezTo>
                  <a:pt x="11683" y="9756"/>
                  <a:pt x="11683" y="9740"/>
                  <a:pt x="11683" y="9723"/>
                </a:cubicBezTo>
              </a:path>
              <a:path w="745" h="398">
                <a:moveTo>
                  <a:pt x="12204" y="9401"/>
                </a:moveTo>
                <a:cubicBezTo>
                  <a:pt x="12131" y="9501"/>
                  <a:pt x="12111" y="9576"/>
                  <a:pt x="12080" y="9699"/>
                </a:cubicBezTo>
                <a:cubicBezTo>
                  <a:pt x="12174" y="9750"/>
                  <a:pt x="12388" y="9797"/>
                  <a:pt x="12427" y="9624"/>
                </a:cubicBezTo>
                <a:cubicBezTo>
                  <a:pt x="12447" y="9535"/>
                  <a:pt x="12307" y="9465"/>
                  <a:pt x="12254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4081320"/>
            <a:ext cx="330120" cy="18756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1708" y="11410"/>
                </a:moveTo>
                <a:cubicBezTo>
                  <a:pt x="11672" y="11545"/>
                  <a:pt x="11634" y="11676"/>
                  <a:pt x="11658" y="11807"/>
                </a:cubicBezTo>
                <a:cubicBezTo>
                  <a:pt x="11819" y="11818"/>
                  <a:pt x="11903" y="11791"/>
                  <a:pt x="12005" y="11658"/>
                </a:cubicBezTo>
                <a:cubicBezTo>
                  <a:pt x="11869" y="11584"/>
                  <a:pt x="11766" y="11616"/>
                  <a:pt x="11708" y="11807"/>
                </a:cubicBezTo>
                <a:cubicBezTo>
                  <a:pt x="11708" y="11865"/>
                  <a:pt x="11716" y="11882"/>
                  <a:pt x="11782" y="11857"/>
                </a:cubicBezTo>
              </a:path>
              <a:path w="919" h="522">
                <a:moveTo>
                  <a:pt x="12154" y="11435"/>
                </a:moveTo>
                <a:cubicBezTo>
                  <a:pt x="12090" y="11564"/>
                  <a:pt x="12072" y="11617"/>
                  <a:pt x="12105" y="11757"/>
                </a:cubicBezTo>
                <a:cubicBezTo>
                  <a:pt x="12240" y="11780"/>
                  <a:pt x="12485" y="11749"/>
                  <a:pt x="12551" y="11584"/>
                </a:cubicBezTo>
                <a:cubicBezTo>
                  <a:pt x="12622" y="11407"/>
                  <a:pt x="12491" y="11381"/>
                  <a:pt x="12378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48680" y="480384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20414" y="13568"/>
                </a:moveTo>
                <a:cubicBezTo>
                  <a:pt x="20542" y="13670"/>
                  <a:pt x="20628" y="13798"/>
                  <a:pt x="20712" y="13940"/>
                </a:cubicBezTo>
              </a:path>
              <a:path w="969" h="646">
                <a:moveTo>
                  <a:pt x="20737" y="13519"/>
                </a:moveTo>
                <a:cubicBezTo>
                  <a:pt x="20653" y="13686"/>
                  <a:pt x="20563" y="13834"/>
                  <a:pt x="20464" y="13990"/>
                </a:cubicBezTo>
              </a:path>
              <a:path w="969" h="646">
                <a:moveTo>
                  <a:pt x="21109" y="13543"/>
                </a:moveTo>
                <a:cubicBezTo>
                  <a:pt x="21100" y="13645"/>
                  <a:pt x="21087" y="13677"/>
                  <a:pt x="21034" y="13767"/>
                </a:cubicBezTo>
                <a:cubicBezTo>
                  <a:pt x="21138" y="13767"/>
                  <a:pt x="21231" y="13780"/>
                  <a:pt x="21332" y="13791"/>
                </a:cubicBezTo>
              </a:path>
              <a:path w="969" h="646">
                <a:moveTo>
                  <a:pt x="21382" y="13345"/>
                </a:moveTo>
                <a:cubicBezTo>
                  <a:pt x="21382" y="13538"/>
                  <a:pt x="21396" y="13751"/>
                  <a:pt x="21357" y="13940"/>
                </a:cubicBezTo>
                <a:cubicBezTo>
                  <a:pt x="21349" y="13957"/>
                  <a:pt x="21340" y="13973"/>
                  <a:pt x="21332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1920" y="3786120"/>
            <a:ext cx="23184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19943" y="10517"/>
                </a:moveTo>
                <a:cubicBezTo>
                  <a:pt x="19838" y="10544"/>
                  <a:pt x="19759" y="10534"/>
                  <a:pt x="19695" y="10641"/>
                </a:cubicBezTo>
                <a:cubicBezTo>
                  <a:pt x="19687" y="10666"/>
                  <a:pt x="19678" y="10691"/>
                  <a:pt x="19670" y="10716"/>
                </a:cubicBezTo>
                <a:cubicBezTo>
                  <a:pt x="19766" y="10709"/>
                  <a:pt x="19947" y="10656"/>
                  <a:pt x="19968" y="10815"/>
                </a:cubicBezTo>
                <a:cubicBezTo>
                  <a:pt x="19993" y="11007"/>
                  <a:pt x="19814" y="11021"/>
                  <a:pt x="19695" y="10964"/>
                </a:cubicBezTo>
                <a:cubicBezTo>
                  <a:pt x="19687" y="10956"/>
                  <a:pt x="19678" y="10947"/>
                  <a:pt x="19670" y="10939"/>
                </a:cubicBezTo>
              </a:path>
              <a:path w="646" h="497">
                <a:moveTo>
                  <a:pt x="20092" y="10666"/>
                </a:moveTo>
                <a:cubicBezTo>
                  <a:pt x="20165" y="10641"/>
                  <a:pt x="20189" y="10633"/>
                  <a:pt x="20241" y="10641"/>
                </a:cubicBezTo>
                <a:cubicBezTo>
                  <a:pt x="20312" y="10786"/>
                  <a:pt x="20229" y="10846"/>
                  <a:pt x="20092" y="10939"/>
                </a:cubicBezTo>
                <a:cubicBezTo>
                  <a:pt x="19981" y="11015"/>
                  <a:pt x="20253" y="10979"/>
                  <a:pt x="20315" y="109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9760" y="4152960"/>
            <a:ext cx="331560" cy="187200"/>
          </a:xfrm>
          <a:custGeom>
            <a:avLst/>
            <a:gdLst/>
            <a:ahLst/>
            <a:rect l="l" t="t" r="r" b="b"/>
            <a:pathLst>
              <a:path w="919" h="522">
                <a:moveTo>
                  <a:pt x="16966" y="11609"/>
                </a:moveTo>
                <a:cubicBezTo>
                  <a:pt x="16982" y="11782"/>
                  <a:pt x="16964" y="11885"/>
                  <a:pt x="16917" y="12055"/>
                </a:cubicBezTo>
              </a:path>
              <a:path w="919" h="522">
                <a:moveTo>
                  <a:pt x="17264" y="11609"/>
                </a:moveTo>
                <a:cubicBezTo>
                  <a:pt x="17205" y="11753"/>
                  <a:pt x="17199" y="11802"/>
                  <a:pt x="17214" y="11956"/>
                </a:cubicBezTo>
                <a:cubicBezTo>
                  <a:pt x="17340" y="11979"/>
                  <a:pt x="17479" y="11960"/>
                  <a:pt x="17438" y="11782"/>
                </a:cubicBezTo>
                <a:cubicBezTo>
                  <a:pt x="17388" y="11683"/>
                  <a:pt x="17371" y="11650"/>
                  <a:pt x="17289" y="11633"/>
                </a:cubicBezTo>
              </a:path>
              <a:path w="919" h="522">
                <a:moveTo>
                  <a:pt x="17487" y="11584"/>
                </a:moveTo>
                <a:cubicBezTo>
                  <a:pt x="17473" y="11716"/>
                  <a:pt x="17448" y="11923"/>
                  <a:pt x="17661" y="11881"/>
                </a:cubicBezTo>
                <a:cubicBezTo>
                  <a:pt x="17842" y="11845"/>
                  <a:pt x="17878" y="11707"/>
                  <a:pt x="17760" y="11584"/>
                </a:cubicBezTo>
                <a:cubicBezTo>
                  <a:pt x="17695" y="11516"/>
                  <a:pt x="17653" y="11525"/>
                  <a:pt x="17587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971800"/>
            <a:ext cx="7391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unction Tables Round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viously you had to figure out the rule as well as the missing inputs or outputs.  With a two-operation function,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you simply need to find the outp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3200400"/>
          <a:ext cx="2133360" cy="302436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69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3x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124080"/>
          <a:ext cx="2057400" cy="312408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6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(x + 2) x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00800" y="3200400"/>
          <a:ext cx="1905120" cy="3086280"/>
        </p:xfrm>
        <a:graphic>
          <a:graphicData uri="http://schemas.openxmlformats.org/drawingml/2006/table">
            <a:tbl>
              <a:tblPr/>
              <a:tblGrid>
                <a:gridCol w="919080"/>
                <a:gridCol w="986040"/>
              </a:tblGrid>
              <a:tr h="718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3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571840" y="4456080"/>
            <a:ext cx="277560" cy="25092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7193" y="12477"/>
                </a:moveTo>
                <a:cubicBezTo>
                  <a:pt x="7202" y="12554"/>
                  <a:pt x="7218" y="12621"/>
                  <a:pt x="7218" y="12700"/>
                </a:cubicBezTo>
                <a:cubicBezTo>
                  <a:pt x="7218" y="12829"/>
                  <a:pt x="7182" y="12950"/>
                  <a:pt x="7144" y="13072"/>
                </a:cubicBezTo>
              </a:path>
              <a:path w="770" h="695">
                <a:moveTo>
                  <a:pt x="7541" y="12700"/>
                </a:moveTo>
                <a:cubicBezTo>
                  <a:pt x="7540" y="12828"/>
                  <a:pt x="7713" y="12780"/>
                  <a:pt x="7838" y="12750"/>
                </a:cubicBezTo>
                <a:cubicBezTo>
                  <a:pt x="7863" y="12742"/>
                  <a:pt x="7888" y="12733"/>
                  <a:pt x="7913" y="12725"/>
                </a:cubicBezTo>
              </a:path>
              <a:path w="770" h="695">
                <a:moveTo>
                  <a:pt x="7838" y="12378"/>
                </a:moveTo>
                <a:cubicBezTo>
                  <a:pt x="7793" y="12568"/>
                  <a:pt x="7753" y="12754"/>
                  <a:pt x="7739" y="129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4929120"/>
            <a:ext cx="349200" cy="20628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7317" y="13717"/>
                </a:moveTo>
                <a:cubicBezTo>
                  <a:pt x="7373" y="13962"/>
                  <a:pt x="7340" y="14149"/>
                  <a:pt x="7069" y="14263"/>
                </a:cubicBezTo>
                <a:cubicBezTo>
                  <a:pt x="7036" y="14263"/>
                  <a:pt x="7003" y="14263"/>
                  <a:pt x="6970" y="14263"/>
                </a:cubicBezTo>
                <a:cubicBezTo>
                  <a:pt x="6961" y="14146"/>
                  <a:pt x="7012" y="13955"/>
                  <a:pt x="7193" y="14015"/>
                </a:cubicBezTo>
                <a:cubicBezTo>
                  <a:pt x="7289" y="14086"/>
                  <a:pt x="7321" y="14107"/>
                  <a:pt x="7342" y="14188"/>
                </a:cubicBezTo>
              </a:path>
              <a:path w="969" h="572">
                <a:moveTo>
                  <a:pt x="7615" y="13791"/>
                </a:moveTo>
                <a:cubicBezTo>
                  <a:pt x="7644" y="13744"/>
                  <a:pt x="7731" y="13619"/>
                  <a:pt x="7813" y="13717"/>
                </a:cubicBezTo>
                <a:cubicBezTo>
                  <a:pt x="7905" y="13827"/>
                  <a:pt x="7766" y="13915"/>
                  <a:pt x="7689" y="13940"/>
                </a:cubicBezTo>
                <a:cubicBezTo>
                  <a:pt x="7739" y="13898"/>
                  <a:pt x="7902" y="13795"/>
                  <a:pt x="7913" y="13940"/>
                </a:cubicBezTo>
                <a:cubicBezTo>
                  <a:pt x="7929" y="14154"/>
                  <a:pt x="7711" y="14174"/>
                  <a:pt x="7565" y="141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0200" y="5392800"/>
            <a:ext cx="349200" cy="20628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7094" y="15081"/>
                </a:moveTo>
                <a:cubicBezTo>
                  <a:pt x="7094" y="15050"/>
                  <a:pt x="7126" y="15039"/>
                  <a:pt x="7218" y="14982"/>
                </a:cubicBezTo>
                <a:cubicBezTo>
                  <a:pt x="7390" y="15107"/>
                  <a:pt x="7367" y="15262"/>
                  <a:pt x="7218" y="15429"/>
                </a:cubicBezTo>
                <a:cubicBezTo>
                  <a:pt x="7096" y="15566"/>
                  <a:pt x="6983" y="15516"/>
                  <a:pt x="6945" y="15379"/>
                </a:cubicBezTo>
                <a:cubicBezTo>
                  <a:pt x="7133" y="15304"/>
                  <a:pt x="7188" y="15322"/>
                  <a:pt x="7317" y="15478"/>
                </a:cubicBezTo>
              </a:path>
              <a:path w="969" h="572">
                <a:moveTo>
                  <a:pt x="7888" y="15106"/>
                </a:moveTo>
                <a:cubicBezTo>
                  <a:pt x="7869" y="15030"/>
                  <a:pt x="7799" y="14929"/>
                  <a:pt x="7689" y="14982"/>
                </a:cubicBezTo>
                <a:cubicBezTo>
                  <a:pt x="7594" y="15028"/>
                  <a:pt x="7525" y="15312"/>
                  <a:pt x="7689" y="15255"/>
                </a:cubicBezTo>
                <a:cubicBezTo>
                  <a:pt x="7807" y="15184"/>
                  <a:pt x="7844" y="15164"/>
                  <a:pt x="7888" y="15081"/>
                </a:cubicBezTo>
                <a:cubicBezTo>
                  <a:pt x="7896" y="15065"/>
                  <a:pt x="7905" y="15048"/>
                  <a:pt x="7913" y="15032"/>
                </a:cubicBezTo>
                <a:cubicBezTo>
                  <a:pt x="7878" y="15206"/>
                  <a:pt x="7869" y="15375"/>
                  <a:pt x="7813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5830920"/>
            <a:ext cx="401760" cy="26028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6945" y="16247"/>
                </a:moveTo>
                <a:cubicBezTo>
                  <a:pt x="7028" y="16223"/>
                  <a:pt x="7218" y="16132"/>
                  <a:pt x="7218" y="16321"/>
                </a:cubicBezTo>
                <a:cubicBezTo>
                  <a:pt x="7164" y="16459"/>
                  <a:pt x="7138" y="16510"/>
                  <a:pt x="7045" y="16570"/>
                </a:cubicBezTo>
                <a:cubicBezTo>
                  <a:pt x="7012" y="16578"/>
                  <a:pt x="6978" y="16586"/>
                  <a:pt x="6945" y="16594"/>
                </a:cubicBezTo>
                <a:cubicBezTo>
                  <a:pt x="7018" y="16565"/>
                  <a:pt x="7272" y="16487"/>
                  <a:pt x="7218" y="16694"/>
                </a:cubicBezTo>
                <a:cubicBezTo>
                  <a:pt x="7184" y="16823"/>
                  <a:pt x="6905" y="16986"/>
                  <a:pt x="6796" y="16867"/>
                </a:cubicBezTo>
                <a:cubicBezTo>
                  <a:pt x="6775" y="16778"/>
                  <a:pt x="6759" y="16753"/>
                  <a:pt x="6821" y="16718"/>
                </a:cubicBezTo>
              </a:path>
              <a:path w="1117" h="721">
                <a:moveTo>
                  <a:pt x="7813" y="16321"/>
                </a:moveTo>
                <a:cubicBezTo>
                  <a:pt x="7765" y="16321"/>
                  <a:pt x="7546" y="16289"/>
                  <a:pt x="7516" y="16346"/>
                </a:cubicBezTo>
                <a:cubicBezTo>
                  <a:pt x="7477" y="16422"/>
                  <a:pt x="7467" y="16536"/>
                  <a:pt x="7441" y="16619"/>
                </a:cubicBezTo>
                <a:cubicBezTo>
                  <a:pt x="7568" y="16605"/>
                  <a:pt x="7630" y="16569"/>
                  <a:pt x="7764" y="16594"/>
                </a:cubicBezTo>
                <a:cubicBezTo>
                  <a:pt x="7856" y="16617"/>
                  <a:pt x="7886" y="16618"/>
                  <a:pt x="7888" y="16694"/>
                </a:cubicBezTo>
                <a:cubicBezTo>
                  <a:pt x="7822" y="16837"/>
                  <a:pt x="7710" y="16892"/>
                  <a:pt x="7541" y="16892"/>
                </a:cubicBezTo>
                <a:cubicBezTo>
                  <a:pt x="7442" y="16872"/>
                  <a:pt x="7426" y="16864"/>
                  <a:pt x="7367" y="168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62680" y="439416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14238" y="12204"/>
                </a:moveTo>
                <a:cubicBezTo>
                  <a:pt x="14256" y="12395"/>
                  <a:pt x="14156" y="12592"/>
                  <a:pt x="14064" y="12774"/>
                </a:cubicBezTo>
              </a:path>
              <a:path w="820" h="571">
                <a:moveTo>
                  <a:pt x="14560" y="12278"/>
                </a:moveTo>
                <a:cubicBezTo>
                  <a:pt x="14641" y="12262"/>
                  <a:pt x="14718" y="12202"/>
                  <a:pt x="14808" y="12229"/>
                </a:cubicBezTo>
                <a:cubicBezTo>
                  <a:pt x="14833" y="12245"/>
                  <a:pt x="14858" y="12262"/>
                  <a:pt x="14883" y="12278"/>
                </a:cubicBezTo>
                <a:cubicBezTo>
                  <a:pt x="14855" y="12485"/>
                  <a:pt x="14782" y="12656"/>
                  <a:pt x="14560" y="12725"/>
                </a:cubicBezTo>
                <a:cubicBezTo>
                  <a:pt x="14519" y="12725"/>
                  <a:pt x="14477" y="12725"/>
                  <a:pt x="14436" y="12725"/>
                </a:cubicBezTo>
                <a:cubicBezTo>
                  <a:pt x="14505" y="12623"/>
                  <a:pt x="14618" y="12492"/>
                  <a:pt x="14759" y="12576"/>
                </a:cubicBezTo>
                <a:cubicBezTo>
                  <a:pt x="14822" y="12613"/>
                  <a:pt x="14826" y="12713"/>
                  <a:pt x="14833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54760" y="4919760"/>
            <a:ext cx="268200" cy="188640"/>
          </a:xfrm>
          <a:custGeom>
            <a:avLst/>
            <a:gdLst/>
            <a:ahLst/>
            <a:rect l="l" t="t" r="r" b="b"/>
            <a:pathLst>
              <a:path w="746" h="522">
                <a:moveTo>
                  <a:pt x="14238" y="13717"/>
                </a:moveTo>
                <a:cubicBezTo>
                  <a:pt x="14145" y="13900"/>
                  <a:pt x="14141" y="14009"/>
                  <a:pt x="14039" y="14188"/>
                </a:cubicBezTo>
              </a:path>
              <a:path w="746" h="522">
                <a:moveTo>
                  <a:pt x="14784" y="13667"/>
                </a:moveTo>
                <a:cubicBezTo>
                  <a:pt x="14694" y="13692"/>
                  <a:pt x="14512" y="13716"/>
                  <a:pt x="14585" y="13866"/>
                </a:cubicBezTo>
                <a:cubicBezTo>
                  <a:pt x="14660" y="14021"/>
                  <a:pt x="14698" y="13960"/>
                  <a:pt x="14635" y="14114"/>
                </a:cubicBezTo>
                <a:cubicBezTo>
                  <a:pt x="14418" y="14158"/>
                  <a:pt x="14626" y="13926"/>
                  <a:pt x="14684" y="13841"/>
                </a:cubicBezTo>
                <a:cubicBezTo>
                  <a:pt x="14745" y="13760"/>
                  <a:pt x="14760" y="13748"/>
                  <a:pt x="14784" y="136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5040" y="5322960"/>
            <a:ext cx="393840" cy="249120"/>
          </a:xfrm>
          <a:custGeom>
            <a:avLst/>
            <a:gdLst/>
            <a:ahLst/>
            <a:rect l="l" t="t" r="r" b="b"/>
            <a:pathLst>
              <a:path w="1092" h="695">
                <a:moveTo>
                  <a:pt x="14139" y="15081"/>
                </a:moveTo>
                <a:cubicBezTo>
                  <a:pt x="14268" y="15081"/>
                  <a:pt x="14410" y="15066"/>
                  <a:pt x="14362" y="15255"/>
                </a:cubicBezTo>
                <a:cubicBezTo>
                  <a:pt x="14314" y="15444"/>
                  <a:pt x="14152" y="15532"/>
                  <a:pt x="14015" y="15429"/>
                </a:cubicBezTo>
                <a:cubicBezTo>
                  <a:pt x="14164" y="15302"/>
                  <a:pt x="14207" y="15274"/>
                  <a:pt x="14362" y="15404"/>
                </a:cubicBezTo>
                <a:cubicBezTo>
                  <a:pt x="14370" y="15412"/>
                  <a:pt x="14379" y="15421"/>
                  <a:pt x="14387" y="15429"/>
                </a:cubicBezTo>
              </a:path>
              <a:path w="1092" h="695">
                <a:moveTo>
                  <a:pt x="14709" y="14982"/>
                </a:moveTo>
                <a:cubicBezTo>
                  <a:pt x="14709" y="15203"/>
                  <a:pt x="14690" y="15299"/>
                  <a:pt x="14957" y="15205"/>
                </a:cubicBezTo>
                <a:cubicBezTo>
                  <a:pt x="15007" y="15180"/>
                  <a:pt x="15056" y="15156"/>
                  <a:pt x="15106" y="15131"/>
                </a:cubicBezTo>
              </a:path>
              <a:path w="1092" h="695">
                <a:moveTo>
                  <a:pt x="15106" y="14784"/>
                </a:moveTo>
                <a:cubicBezTo>
                  <a:pt x="15036" y="14971"/>
                  <a:pt x="14978" y="15183"/>
                  <a:pt x="14883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18040" y="5884920"/>
            <a:ext cx="420840" cy="214200"/>
          </a:xfrm>
          <a:custGeom>
            <a:avLst/>
            <a:gdLst/>
            <a:ahLst/>
            <a:rect l="l" t="t" r="r" b="b"/>
            <a:pathLst>
              <a:path w="1167" h="597">
                <a:moveTo>
                  <a:pt x="13990" y="16421"/>
                </a:moveTo>
                <a:cubicBezTo>
                  <a:pt x="14044" y="16397"/>
                  <a:pt x="14436" y="16251"/>
                  <a:pt x="14337" y="16495"/>
                </a:cubicBezTo>
                <a:cubicBezTo>
                  <a:pt x="14264" y="16569"/>
                  <a:pt x="14240" y="16594"/>
                  <a:pt x="14163" y="16594"/>
                </a:cubicBezTo>
                <a:cubicBezTo>
                  <a:pt x="14067" y="16702"/>
                  <a:pt x="14322" y="16605"/>
                  <a:pt x="14412" y="16718"/>
                </a:cubicBezTo>
                <a:cubicBezTo>
                  <a:pt x="14337" y="16886"/>
                  <a:pt x="14203" y="17028"/>
                  <a:pt x="13990" y="16892"/>
                </a:cubicBezTo>
                <a:cubicBezTo>
                  <a:pt x="13973" y="16867"/>
                  <a:pt x="13957" y="16843"/>
                  <a:pt x="13940" y="16818"/>
                </a:cubicBezTo>
              </a:path>
              <a:path w="1167" h="597">
                <a:moveTo>
                  <a:pt x="14808" y="16421"/>
                </a:moveTo>
                <a:cubicBezTo>
                  <a:pt x="14685" y="16591"/>
                  <a:pt x="14607" y="16682"/>
                  <a:pt x="14635" y="16892"/>
                </a:cubicBezTo>
                <a:cubicBezTo>
                  <a:pt x="14797" y="16873"/>
                  <a:pt x="15182" y="16820"/>
                  <a:pt x="15106" y="16545"/>
                </a:cubicBezTo>
                <a:cubicBezTo>
                  <a:pt x="15004" y="16443"/>
                  <a:pt x="14968" y="16410"/>
                  <a:pt x="14858" y="1642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4160" y="4527720"/>
            <a:ext cx="144720" cy="16956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21555" y="12601"/>
                </a:moveTo>
                <a:cubicBezTo>
                  <a:pt x="21412" y="12593"/>
                  <a:pt x="21344" y="12615"/>
                  <a:pt x="21208" y="12675"/>
                </a:cubicBezTo>
                <a:cubicBezTo>
                  <a:pt x="21250" y="12738"/>
                  <a:pt x="21560" y="12861"/>
                  <a:pt x="21481" y="12998"/>
                </a:cubicBezTo>
                <a:cubicBezTo>
                  <a:pt x="21384" y="13046"/>
                  <a:pt x="21354" y="13063"/>
                  <a:pt x="21282" y="13022"/>
                </a:cubicBezTo>
                <a:cubicBezTo>
                  <a:pt x="21384" y="12884"/>
                  <a:pt x="21506" y="12761"/>
                  <a:pt x="21605" y="126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81960" y="5018040"/>
            <a:ext cx="3571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21183" y="13990"/>
                </a:moveTo>
                <a:cubicBezTo>
                  <a:pt x="21150" y="14156"/>
                  <a:pt x="21097" y="14320"/>
                  <a:pt x="21059" y="14486"/>
                </a:cubicBezTo>
              </a:path>
              <a:path w="993" h="547">
                <a:moveTo>
                  <a:pt x="21481" y="13990"/>
                </a:moveTo>
                <a:cubicBezTo>
                  <a:pt x="21634" y="13990"/>
                  <a:pt x="21776" y="13954"/>
                  <a:pt x="21927" y="13940"/>
                </a:cubicBezTo>
                <a:cubicBezTo>
                  <a:pt x="21960" y="13940"/>
                  <a:pt x="21994" y="13940"/>
                  <a:pt x="22027" y="13940"/>
                </a:cubicBezTo>
                <a:cubicBezTo>
                  <a:pt x="22013" y="14069"/>
                  <a:pt x="21898" y="14238"/>
                  <a:pt x="21803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7960" y="5491080"/>
            <a:ext cx="374760" cy="18900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20935" y="15280"/>
                </a:moveTo>
                <a:cubicBezTo>
                  <a:pt x="21057" y="15265"/>
                  <a:pt x="21141" y="15248"/>
                  <a:pt x="21258" y="15280"/>
                </a:cubicBezTo>
                <a:cubicBezTo>
                  <a:pt x="21189" y="15409"/>
                  <a:pt x="21148" y="15429"/>
                  <a:pt x="21010" y="15503"/>
                </a:cubicBezTo>
                <a:cubicBezTo>
                  <a:pt x="21109" y="15480"/>
                  <a:pt x="21336" y="15459"/>
                  <a:pt x="21258" y="15652"/>
                </a:cubicBezTo>
                <a:cubicBezTo>
                  <a:pt x="21191" y="15818"/>
                  <a:pt x="21021" y="15747"/>
                  <a:pt x="20910" y="15726"/>
                </a:cubicBezTo>
              </a:path>
              <a:path w="1043" h="522">
                <a:moveTo>
                  <a:pt x="21630" y="15329"/>
                </a:moveTo>
                <a:cubicBezTo>
                  <a:pt x="21747" y="15282"/>
                  <a:pt x="21927" y="15242"/>
                  <a:pt x="21952" y="15429"/>
                </a:cubicBezTo>
                <a:cubicBezTo>
                  <a:pt x="21974" y="15595"/>
                  <a:pt x="21734" y="15823"/>
                  <a:pt x="21580" y="15677"/>
                </a:cubicBezTo>
                <a:cubicBezTo>
                  <a:pt x="21580" y="15652"/>
                  <a:pt x="21580" y="15627"/>
                  <a:pt x="21580" y="15602"/>
                </a:cubicBezTo>
                <a:cubicBezTo>
                  <a:pt x="21732" y="15548"/>
                  <a:pt x="21797" y="15571"/>
                  <a:pt x="21927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39040" y="5848200"/>
            <a:ext cx="615960" cy="233640"/>
          </a:xfrm>
          <a:custGeom>
            <a:avLst/>
            <a:gdLst/>
            <a:ahLst/>
            <a:rect l="l" t="t" r="r" b="b"/>
            <a:pathLst>
              <a:path w="1713" h="646">
                <a:moveTo>
                  <a:pt x="20861" y="16247"/>
                </a:moveTo>
                <a:cubicBezTo>
                  <a:pt x="20963" y="16281"/>
                  <a:pt x="21127" y="16250"/>
                  <a:pt x="21183" y="16371"/>
                </a:cubicBezTo>
                <a:cubicBezTo>
                  <a:pt x="21254" y="16522"/>
                  <a:pt x="21044" y="16575"/>
                  <a:pt x="20960" y="16619"/>
                </a:cubicBezTo>
                <a:cubicBezTo>
                  <a:pt x="20943" y="16619"/>
                  <a:pt x="20927" y="16619"/>
                  <a:pt x="20910" y="16619"/>
                </a:cubicBezTo>
                <a:cubicBezTo>
                  <a:pt x="20984" y="16591"/>
                  <a:pt x="21260" y="16551"/>
                  <a:pt x="21208" y="16743"/>
                </a:cubicBezTo>
                <a:cubicBezTo>
                  <a:pt x="21144" y="16977"/>
                  <a:pt x="20801" y="16872"/>
                  <a:pt x="20662" y="16842"/>
                </a:cubicBezTo>
              </a:path>
              <a:path w="1713" h="646">
                <a:moveTo>
                  <a:pt x="21555" y="16421"/>
                </a:moveTo>
                <a:cubicBezTo>
                  <a:pt x="21436" y="16524"/>
                  <a:pt x="21400" y="16575"/>
                  <a:pt x="21332" y="16718"/>
                </a:cubicBezTo>
                <a:cubicBezTo>
                  <a:pt x="21467" y="16809"/>
                  <a:pt x="21686" y="16895"/>
                  <a:pt x="21803" y="16694"/>
                </a:cubicBezTo>
                <a:cubicBezTo>
                  <a:pt x="21920" y="16494"/>
                  <a:pt x="21670" y="16467"/>
                  <a:pt x="21555" y="16421"/>
                </a:cubicBezTo>
              </a:path>
              <a:path w="1713" h="646">
                <a:moveTo>
                  <a:pt x="22076" y="16371"/>
                </a:moveTo>
                <a:cubicBezTo>
                  <a:pt x="22190" y="16371"/>
                  <a:pt x="22307" y="16384"/>
                  <a:pt x="22349" y="16520"/>
                </a:cubicBezTo>
                <a:cubicBezTo>
                  <a:pt x="22403" y="16695"/>
                  <a:pt x="22222" y="16874"/>
                  <a:pt x="22051" y="16842"/>
                </a:cubicBezTo>
                <a:cubicBezTo>
                  <a:pt x="22018" y="16826"/>
                  <a:pt x="21985" y="16809"/>
                  <a:pt x="21952" y="16793"/>
                </a:cubicBezTo>
                <a:cubicBezTo>
                  <a:pt x="22002" y="16604"/>
                  <a:pt x="22099" y="16562"/>
                  <a:pt x="22275" y="16694"/>
                </a:cubicBezTo>
                <a:cubicBezTo>
                  <a:pt x="22343" y="16762"/>
                  <a:pt x="22365" y="16778"/>
                  <a:pt x="22374" y="168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bbe0e3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bbe0e3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3048120"/>
          <a:ext cx="2133360" cy="2727360"/>
        </p:xfrm>
        <a:graphic>
          <a:graphicData uri="http://schemas.openxmlformats.org/drawingml/2006/table">
            <a:tbl>
              <a:tblPr/>
              <a:tblGrid>
                <a:gridCol w="96156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857240" y="4010040"/>
            <a:ext cx="339840" cy="23184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5308" y="11286"/>
                </a:moveTo>
                <a:cubicBezTo>
                  <a:pt x="5389" y="11233"/>
                  <a:pt x="5420" y="11220"/>
                  <a:pt x="5482" y="11286"/>
                </a:cubicBezTo>
                <a:cubicBezTo>
                  <a:pt x="5530" y="11500"/>
                  <a:pt x="5545" y="11716"/>
                  <a:pt x="5259" y="11757"/>
                </a:cubicBezTo>
                <a:cubicBezTo>
                  <a:pt x="5226" y="11749"/>
                  <a:pt x="5192" y="11741"/>
                  <a:pt x="5159" y="11733"/>
                </a:cubicBezTo>
                <a:cubicBezTo>
                  <a:pt x="5191" y="11545"/>
                  <a:pt x="5285" y="11554"/>
                  <a:pt x="5457" y="11633"/>
                </a:cubicBezTo>
                <a:cubicBezTo>
                  <a:pt x="5482" y="11650"/>
                  <a:pt x="5506" y="11666"/>
                  <a:pt x="5531" y="11683"/>
                </a:cubicBezTo>
              </a:path>
              <a:path w="944" h="646">
                <a:moveTo>
                  <a:pt x="5779" y="11286"/>
                </a:moveTo>
                <a:cubicBezTo>
                  <a:pt x="5759" y="11455"/>
                  <a:pt x="5750" y="11528"/>
                  <a:pt x="5953" y="11509"/>
                </a:cubicBezTo>
                <a:cubicBezTo>
                  <a:pt x="5994" y="11501"/>
                  <a:pt x="6036" y="11493"/>
                  <a:pt x="6077" y="11485"/>
                </a:cubicBezTo>
              </a:path>
              <a:path w="944" h="646">
                <a:moveTo>
                  <a:pt x="6102" y="11137"/>
                </a:moveTo>
                <a:cubicBezTo>
                  <a:pt x="6074" y="11351"/>
                  <a:pt x="6069" y="11573"/>
                  <a:pt x="6028" y="117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84240" y="448308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5259" y="12700"/>
                </a:moveTo>
                <a:cubicBezTo>
                  <a:pt x="5337" y="12631"/>
                  <a:pt x="5542" y="12563"/>
                  <a:pt x="5581" y="12750"/>
                </a:cubicBezTo>
                <a:cubicBezTo>
                  <a:pt x="5622" y="12948"/>
                  <a:pt x="5401" y="12962"/>
                  <a:pt x="5283" y="12998"/>
                </a:cubicBezTo>
                <a:cubicBezTo>
                  <a:pt x="5267" y="12981"/>
                  <a:pt x="5250" y="12965"/>
                  <a:pt x="5234" y="12948"/>
                </a:cubicBezTo>
                <a:cubicBezTo>
                  <a:pt x="5327" y="12792"/>
                  <a:pt x="5380" y="12712"/>
                  <a:pt x="5531" y="12874"/>
                </a:cubicBezTo>
                <a:cubicBezTo>
                  <a:pt x="5592" y="12955"/>
                  <a:pt x="5607" y="12967"/>
                  <a:pt x="5631" y="13022"/>
                </a:cubicBezTo>
              </a:path>
              <a:path w="943" h="571">
                <a:moveTo>
                  <a:pt x="6127" y="12477"/>
                </a:moveTo>
                <a:cubicBezTo>
                  <a:pt x="6035" y="12508"/>
                  <a:pt x="5834" y="12544"/>
                  <a:pt x="5904" y="12675"/>
                </a:cubicBezTo>
                <a:cubicBezTo>
                  <a:pt x="5978" y="12774"/>
                  <a:pt x="6003" y="12807"/>
                  <a:pt x="6052" y="12874"/>
                </a:cubicBezTo>
                <a:cubicBezTo>
                  <a:pt x="6052" y="12918"/>
                  <a:pt x="6055" y="12931"/>
                  <a:pt x="6028" y="12948"/>
                </a:cubicBezTo>
                <a:cubicBezTo>
                  <a:pt x="5804" y="12845"/>
                  <a:pt x="5977" y="12739"/>
                  <a:pt x="6102" y="12576"/>
                </a:cubicBezTo>
                <a:cubicBezTo>
                  <a:pt x="6158" y="12501"/>
                  <a:pt x="6203" y="12489"/>
                  <a:pt x="6152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5062680"/>
            <a:ext cx="357120" cy="188640"/>
          </a:xfrm>
          <a:custGeom>
            <a:avLst/>
            <a:gdLst/>
            <a:ahLst/>
            <a:rect l="l" t="t" r="r" b="b"/>
            <a:pathLst>
              <a:path w="993" h="522">
                <a:moveTo>
                  <a:pt x="5234" y="14139"/>
                </a:moveTo>
                <a:cubicBezTo>
                  <a:pt x="5322" y="14082"/>
                  <a:pt x="5353" y="14070"/>
                  <a:pt x="5457" y="14089"/>
                </a:cubicBezTo>
                <a:cubicBezTo>
                  <a:pt x="5416" y="14393"/>
                  <a:pt x="5407" y="14107"/>
                  <a:pt x="5556" y="14263"/>
                </a:cubicBezTo>
                <a:cubicBezTo>
                  <a:pt x="5713" y="14427"/>
                  <a:pt x="5415" y="14637"/>
                  <a:pt x="5259" y="14585"/>
                </a:cubicBezTo>
                <a:cubicBezTo>
                  <a:pt x="5234" y="14560"/>
                  <a:pt x="5209" y="14536"/>
                  <a:pt x="5184" y="14511"/>
                </a:cubicBezTo>
              </a:path>
              <a:path w="993" h="522">
                <a:moveTo>
                  <a:pt x="5804" y="14089"/>
                </a:moveTo>
                <a:cubicBezTo>
                  <a:pt x="5931" y="14074"/>
                  <a:pt x="6202" y="14082"/>
                  <a:pt x="6102" y="14312"/>
                </a:cubicBezTo>
                <a:cubicBezTo>
                  <a:pt x="6034" y="14469"/>
                  <a:pt x="5913" y="14442"/>
                  <a:pt x="5804" y="14412"/>
                </a:cubicBezTo>
                <a:cubicBezTo>
                  <a:pt x="5865" y="14251"/>
                  <a:pt x="5948" y="14108"/>
                  <a:pt x="6127" y="14288"/>
                </a:cubicBezTo>
                <a:cubicBezTo>
                  <a:pt x="6143" y="14321"/>
                  <a:pt x="6160" y="14354"/>
                  <a:pt x="6176" y="143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0880" y="5438880"/>
            <a:ext cx="349200" cy="196920"/>
          </a:xfrm>
          <a:custGeom>
            <a:avLst/>
            <a:gdLst/>
            <a:ahLst/>
            <a:rect l="l" t="t" r="r" b="b"/>
            <a:pathLst>
              <a:path w="969" h="547">
                <a:moveTo>
                  <a:pt x="5110" y="15106"/>
                </a:moveTo>
                <a:cubicBezTo>
                  <a:pt x="5110" y="15206"/>
                  <a:pt x="5094" y="15286"/>
                  <a:pt x="5060" y="15379"/>
                </a:cubicBezTo>
                <a:cubicBezTo>
                  <a:pt x="5166" y="15458"/>
                  <a:pt x="5208" y="15482"/>
                  <a:pt x="5308" y="15429"/>
                </a:cubicBezTo>
              </a:path>
              <a:path w="969" h="547">
                <a:moveTo>
                  <a:pt x="5457" y="15106"/>
                </a:moveTo>
                <a:cubicBezTo>
                  <a:pt x="5432" y="15290"/>
                  <a:pt x="5427" y="15470"/>
                  <a:pt x="5383" y="15652"/>
                </a:cubicBezTo>
              </a:path>
              <a:path w="969" h="547">
                <a:moveTo>
                  <a:pt x="5928" y="15106"/>
                </a:moveTo>
                <a:cubicBezTo>
                  <a:pt x="5805" y="15157"/>
                  <a:pt x="5752" y="15327"/>
                  <a:pt x="5730" y="15453"/>
                </a:cubicBezTo>
                <a:cubicBezTo>
                  <a:pt x="5730" y="15554"/>
                  <a:pt x="5710" y="15585"/>
                  <a:pt x="5779" y="15602"/>
                </a:cubicBezTo>
                <a:cubicBezTo>
                  <a:pt x="5972" y="15531"/>
                  <a:pt x="6123" y="15423"/>
                  <a:pt x="5953" y="15205"/>
                </a:cubicBezTo>
                <a:cubicBezTo>
                  <a:pt x="5920" y="15180"/>
                  <a:pt x="5887" y="15156"/>
                  <a:pt x="5854" y="151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4200" y="3303720"/>
            <a:ext cx="463680" cy="1081080"/>
          </a:xfrm>
          <a:custGeom>
            <a:avLst/>
            <a:gdLst/>
            <a:ahLst/>
            <a:rect l="l" t="t" r="r" b="b"/>
            <a:pathLst>
              <a:path w="1291" h="3002">
                <a:moveTo>
                  <a:pt x="13965" y="9351"/>
                </a:moveTo>
                <a:cubicBezTo>
                  <a:pt x="13929" y="9558"/>
                  <a:pt x="13899" y="9764"/>
                  <a:pt x="13866" y="9971"/>
                </a:cubicBezTo>
              </a:path>
              <a:path w="1291" h="3002">
                <a:moveTo>
                  <a:pt x="14213" y="9426"/>
                </a:moveTo>
                <a:cubicBezTo>
                  <a:pt x="14236" y="9517"/>
                  <a:pt x="14247" y="9543"/>
                  <a:pt x="14213" y="9599"/>
                </a:cubicBezTo>
                <a:cubicBezTo>
                  <a:pt x="14335" y="9599"/>
                  <a:pt x="14441" y="9595"/>
                  <a:pt x="14560" y="9575"/>
                </a:cubicBezTo>
              </a:path>
              <a:path w="1291" h="3002">
                <a:moveTo>
                  <a:pt x="14461" y="9178"/>
                </a:moveTo>
                <a:cubicBezTo>
                  <a:pt x="14461" y="9444"/>
                  <a:pt x="14447" y="9706"/>
                  <a:pt x="14436" y="9971"/>
                </a:cubicBezTo>
              </a:path>
              <a:path w="1291" h="3002">
                <a:moveTo>
                  <a:pt x="13593" y="10790"/>
                </a:moveTo>
                <a:cubicBezTo>
                  <a:pt x="13623" y="10772"/>
                  <a:pt x="13978" y="10566"/>
                  <a:pt x="13940" y="10716"/>
                </a:cubicBezTo>
                <a:cubicBezTo>
                  <a:pt x="13909" y="10839"/>
                  <a:pt x="13811" y="10909"/>
                  <a:pt x="13717" y="10964"/>
                </a:cubicBezTo>
                <a:cubicBezTo>
                  <a:pt x="13755" y="10931"/>
                  <a:pt x="14041" y="10813"/>
                  <a:pt x="13965" y="10988"/>
                </a:cubicBezTo>
                <a:cubicBezTo>
                  <a:pt x="13887" y="11168"/>
                  <a:pt x="13645" y="11143"/>
                  <a:pt x="13593" y="11013"/>
                </a:cubicBezTo>
              </a:path>
              <a:path w="1291" h="3002">
                <a:moveTo>
                  <a:pt x="14362" y="10616"/>
                </a:moveTo>
                <a:cubicBezTo>
                  <a:pt x="14346" y="10724"/>
                  <a:pt x="14318" y="10793"/>
                  <a:pt x="14263" y="10889"/>
                </a:cubicBezTo>
                <a:cubicBezTo>
                  <a:pt x="14401" y="10882"/>
                  <a:pt x="14487" y="10872"/>
                  <a:pt x="14610" y="10815"/>
                </a:cubicBezTo>
              </a:path>
              <a:path w="1291" h="3002">
                <a:moveTo>
                  <a:pt x="14585" y="10368"/>
                </a:moveTo>
                <a:cubicBezTo>
                  <a:pt x="14566" y="10560"/>
                  <a:pt x="14504" y="10750"/>
                  <a:pt x="14461" y="10939"/>
                </a:cubicBezTo>
                <a:cubicBezTo>
                  <a:pt x="14441" y="11038"/>
                  <a:pt x="14433" y="11053"/>
                  <a:pt x="14436" y="11112"/>
                </a:cubicBezTo>
              </a:path>
              <a:path w="1291" h="3002">
                <a:moveTo>
                  <a:pt x="13767" y="11733"/>
                </a:moveTo>
                <a:cubicBezTo>
                  <a:pt x="13932" y="11733"/>
                  <a:pt x="14098" y="11733"/>
                  <a:pt x="14263" y="11733"/>
                </a:cubicBezTo>
                <a:cubicBezTo>
                  <a:pt x="14215" y="11874"/>
                  <a:pt x="14135" y="12018"/>
                  <a:pt x="14064" y="12154"/>
                </a:cubicBezTo>
              </a:path>
              <a:path w="1291" h="3002">
                <a:moveTo>
                  <a:pt x="14585" y="11708"/>
                </a:moveTo>
                <a:cubicBezTo>
                  <a:pt x="14585" y="11776"/>
                  <a:pt x="14581" y="11819"/>
                  <a:pt x="14560" y="11881"/>
                </a:cubicBezTo>
                <a:cubicBezTo>
                  <a:pt x="14678" y="11930"/>
                  <a:pt x="14755" y="11948"/>
                  <a:pt x="14883" y="11956"/>
                </a:cubicBezTo>
              </a:path>
              <a:path w="1291" h="3002">
                <a:moveTo>
                  <a:pt x="14883" y="11584"/>
                </a:moveTo>
                <a:cubicBezTo>
                  <a:pt x="14830" y="11782"/>
                  <a:pt x="14776" y="11975"/>
                  <a:pt x="14759" y="121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5120" y="4670280"/>
            <a:ext cx="438120" cy="295560"/>
          </a:xfrm>
          <a:custGeom>
            <a:avLst/>
            <a:gdLst/>
            <a:ahLst/>
            <a:rect l="l" t="t" r="r" b="b"/>
            <a:pathLst>
              <a:path w="1217" h="819">
                <a:moveTo>
                  <a:pt x="14139" y="13146"/>
                </a:moveTo>
                <a:cubicBezTo>
                  <a:pt x="14168" y="13176"/>
                  <a:pt x="14179" y="13178"/>
                  <a:pt x="14188" y="13122"/>
                </a:cubicBezTo>
              </a:path>
              <a:path w="1217" h="819">
                <a:moveTo>
                  <a:pt x="14486" y="13122"/>
                </a:moveTo>
                <a:cubicBezTo>
                  <a:pt x="14486" y="13214"/>
                  <a:pt x="14488" y="13240"/>
                  <a:pt x="14461" y="13295"/>
                </a:cubicBezTo>
                <a:cubicBezTo>
                  <a:pt x="14565" y="13288"/>
                  <a:pt x="14661" y="13266"/>
                  <a:pt x="14759" y="13246"/>
                </a:cubicBezTo>
              </a:path>
              <a:path w="1217" h="819">
                <a:moveTo>
                  <a:pt x="14734" y="12973"/>
                </a:moveTo>
                <a:cubicBezTo>
                  <a:pt x="14685" y="13168"/>
                  <a:pt x="14651" y="13370"/>
                  <a:pt x="14610" y="13568"/>
                </a:cubicBezTo>
              </a:path>
              <a:path w="1217" h="819">
                <a:moveTo>
                  <a:pt x="13667" y="13196"/>
                </a:moveTo>
                <a:cubicBezTo>
                  <a:pt x="13638" y="13166"/>
                  <a:pt x="13633" y="13152"/>
                  <a:pt x="13667" y="13122"/>
                </a:cubicBezTo>
                <a:cubicBezTo>
                  <a:pt x="13616" y="13343"/>
                  <a:pt x="13570" y="13567"/>
                  <a:pt x="13543" y="13791"/>
                </a:cubicBezTo>
              </a:path>
              <a:path w="1217" h="819">
                <a:moveTo>
                  <a:pt x="14263" y="13196"/>
                </a:moveTo>
                <a:cubicBezTo>
                  <a:pt x="14230" y="13109"/>
                  <a:pt x="14147" y="13061"/>
                  <a:pt x="14039" y="13047"/>
                </a:cubicBezTo>
                <a:cubicBezTo>
                  <a:pt x="13901" y="13030"/>
                  <a:pt x="13887" y="13135"/>
                  <a:pt x="13841" y="13246"/>
                </a:cubicBezTo>
                <a:cubicBezTo>
                  <a:pt x="13957" y="13361"/>
                  <a:pt x="14052" y="13377"/>
                  <a:pt x="14188" y="13246"/>
                </a:cubicBezTo>
                <a:cubicBezTo>
                  <a:pt x="14230" y="13206"/>
                  <a:pt x="14252" y="13150"/>
                  <a:pt x="14263" y="13097"/>
                </a:cubicBezTo>
                <a:cubicBezTo>
                  <a:pt x="14215" y="13286"/>
                  <a:pt x="14180" y="13486"/>
                  <a:pt x="14114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24880" y="2847960"/>
            <a:ext cx="268200" cy="196920"/>
          </a:xfrm>
          <a:custGeom>
            <a:avLst/>
            <a:gdLst/>
            <a:ahLst/>
            <a:rect l="l" t="t" r="r" b="b"/>
            <a:pathLst>
              <a:path w="745" h="546">
                <a:moveTo>
                  <a:pt x="21654" y="7913"/>
                </a:moveTo>
                <a:cubicBezTo>
                  <a:pt x="21610" y="8032"/>
                  <a:pt x="21528" y="8108"/>
                  <a:pt x="21456" y="8210"/>
                </a:cubicBezTo>
                <a:cubicBezTo>
                  <a:pt x="21579" y="8226"/>
                  <a:pt x="21699" y="8216"/>
                  <a:pt x="21828" y="8210"/>
                </a:cubicBezTo>
              </a:path>
              <a:path w="745" h="546">
                <a:moveTo>
                  <a:pt x="21779" y="7938"/>
                </a:moveTo>
                <a:cubicBezTo>
                  <a:pt x="21741" y="8122"/>
                  <a:pt x="21706" y="8298"/>
                  <a:pt x="21605" y="8458"/>
                </a:cubicBezTo>
              </a:path>
              <a:path w="745" h="546">
                <a:moveTo>
                  <a:pt x="22101" y="7987"/>
                </a:moveTo>
                <a:cubicBezTo>
                  <a:pt x="21978" y="8126"/>
                  <a:pt x="21847" y="8228"/>
                  <a:pt x="21977" y="8359"/>
                </a:cubicBezTo>
                <a:cubicBezTo>
                  <a:pt x="22168" y="8311"/>
                  <a:pt x="22219" y="8254"/>
                  <a:pt x="22151" y="80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4160" y="3330720"/>
            <a:ext cx="403200" cy="161640"/>
          </a:xfrm>
          <a:custGeom>
            <a:avLst/>
            <a:gdLst/>
            <a:ahLst/>
            <a:rect l="l" t="t" r="r" b="b"/>
            <a:pathLst>
              <a:path w="1117" h="448">
                <a:moveTo>
                  <a:pt x="21258" y="9327"/>
                </a:moveTo>
                <a:cubicBezTo>
                  <a:pt x="21457" y="9235"/>
                  <a:pt x="21484" y="9231"/>
                  <a:pt x="21654" y="9351"/>
                </a:cubicBezTo>
                <a:cubicBezTo>
                  <a:pt x="21614" y="9484"/>
                  <a:pt x="21463" y="9845"/>
                  <a:pt x="21233" y="9699"/>
                </a:cubicBezTo>
                <a:cubicBezTo>
                  <a:pt x="21225" y="9666"/>
                  <a:pt x="21216" y="9632"/>
                  <a:pt x="21208" y="9599"/>
                </a:cubicBezTo>
                <a:cubicBezTo>
                  <a:pt x="21372" y="9504"/>
                  <a:pt x="21492" y="9535"/>
                  <a:pt x="21679" y="9575"/>
                </a:cubicBezTo>
              </a:path>
              <a:path w="1117" h="448">
                <a:moveTo>
                  <a:pt x="21977" y="9277"/>
                </a:moveTo>
                <a:cubicBezTo>
                  <a:pt x="22097" y="9262"/>
                  <a:pt x="22202" y="9252"/>
                  <a:pt x="22324" y="9252"/>
                </a:cubicBezTo>
                <a:cubicBezTo>
                  <a:pt x="22292" y="9402"/>
                  <a:pt x="22252" y="9552"/>
                  <a:pt x="22225" y="96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50080" y="3759120"/>
            <a:ext cx="339840" cy="233280"/>
          </a:xfrm>
          <a:custGeom>
            <a:avLst/>
            <a:gdLst/>
            <a:ahLst/>
            <a:rect l="l" t="t" r="r" b="b"/>
            <a:pathLst>
              <a:path w="944" h="646">
                <a:moveTo>
                  <a:pt x="21630" y="10740"/>
                </a:moveTo>
                <a:cubicBezTo>
                  <a:pt x="21584" y="10899"/>
                  <a:pt x="21574" y="10942"/>
                  <a:pt x="21530" y="11038"/>
                </a:cubicBezTo>
              </a:path>
              <a:path w="944" h="646">
                <a:moveTo>
                  <a:pt x="22200" y="10616"/>
                </a:moveTo>
                <a:cubicBezTo>
                  <a:pt x="22169" y="10684"/>
                  <a:pt x="22139" y="10753"/>
                  <a:pt x="22101" y="10815"/>
                </a:cubicBezTo>
                <a:cubicBezTo>
                  <a:pt x="22215" y="10842"/>
                  <a:pt x="22330" y="10855"/>
                  <a:pt x="22448" y="10864"/>
                </a:cubicBezTo>
              </a:path>
              <a:path w="944" h="646">
                <a:moveTo>
                  <a:pt x="22473" y="10443"/>
                </a:moveTo>
                <a:cubicBezTo>
                  <a:pt x="22451" y="10651"/>
                  <a:pt x="22371" y="10835"/>
                  <a:pt x="22324" y="11038"/>
                </a:cubicBezTo>
                <a:cubicBezTo>
                  <a:pt x="22324" y="11055"/>
                  <a:pt x="22324" y="11071"/>
                  <a:pt x="22324" y="1108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59800" y="4313160"/>
            <a:ext cx="169920" cy="231840"/>
          </a:xfrm>
          <a:custGeom>
            <a:avLst/>
            <a:gdLst/>
            <a:ahLst/>
            <a:rect l="l" t="t" r="r" b="b"/>
            <a:pathLst>
              <a:path w="473" h="646">
                <a:moveTo>
                  <a:pt x="21654" y="12154"/>
                </a:moveTo>
                <a:cubicBezTo>
                  <a:pt x="21654" y="12277"/>
                  <a:pt x="21624" y="12338"/>
                  <a:pt x="21555" y="12452"/>
                </a:cubicBezTo>
                <a:cubicBezTo>
                  <a:pt x="21719" y="12422"/>
                  <a:pt x="21802" y="12447"/>
                  <a:pt x="21952" y="12452"/>
                </a:cubicBezTo>
                <a:cubicBezTo>
                  <a:pt x="21977" y="12444"/>
                  <a:pt x="22002" y="12435"/>
                  <a:pt x="22027" y="12427"/>
                </a:cubicBezTo>
              </a:path>
              <a:path w="473" h="646">
                <a:moveTo>
                  <a:pt x="22002" y="11981"/>
                </a:moveTo>
                <a:cubicBezTo>
                  <a:pt x="21953" y="12195"/>
                  <a:pt x="21921" y="12411"/>
                  <a:pt x="21878" y="126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udents will accurately complete a function table with a two-operation r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ook at the function table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A: What error was made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B: Use what you know about function tables to explain why your answer to Part A is correct.  You may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5880" y="1066680"/>
          <a:ext cx="2133360" cy="2787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le: 7x +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7456320" y="3036960"/>
            <a:ext cx="750960" cy="214200"/>
          </a:xfrm>
          <a:custGeom>
            <a:avLst/>
            <a:gdLst/>
            <a:ahLst/>
            <a:rect l="l" t="t" r="r" b="b"/>
            <a:pathLst>
              <a:path w="2085" h="596">
                <a:moveTo>
                  <a:pt x="22101" y="8434"/>
                </a:moveTo>
                <a:cubicBezTo>
                  <a:pt x="21936" y="8434"/>
                  <a:pt x="21783" y="8459"/>
                  <a:pt x="21630" y="8533"/>
                </a:cubicBezTo>
                <a:cubicBezTo>
                  <a:pt x="21313" y="8688"/>
                  <a:pt x="21040" y="8892"/>
                  <a:pt x="20712" y="9029"/>
                </a:cubicBezTo>
              </a:path>
              <a:path w="2085" h="596">
                <a:moveTo>
                  <a:pt x="22523" y="8483"/>
                </a:moveTo>
                <a:cubicBezTo>
                  <a:pt x="22309" y="8521"/>
                  <a:pt x="22269" y="8468"/>
                  <a:pt x="22151" y="8632"/>
                </a:cubicBezTo>
                <a:cubicBezTo>
                  <a:pt x="22126" y="8665"/>
                  <a:pt x="22101" y="8698"/>
                  <a:pt x="22076" y="8731"/>
                </a:cubicBezTo>
                <a:cubicBezTo>
                  <a:pt x="22255" y="8731"/>
                  <a:pt x="22311" y="8712"/>
                  <a:pt x="22399" y="8855"/>
                </a:cubicBezTo>
                <a:cubicBezTo>
                  <a:pt x="22317" y="8999"/>
                  <a:pt x="22125" y="9120"/>
                  <a:pt x="21952" y="8954"/>
                </a:cubicBezTo>
                <a:cubicBezTo>
                  <a:pt x="21944" y="8921"/>
                  <a:pt x="21935" y="8888"/>
                  <a:pt x="21927" y="8855"/>
                </a:cubicBezTo>
              </a:path>
              <a:path w="2085" h="596">
                <a:moveTo>
                  <a:pt x="22771" y="8558"/>
                </a:moveTo>
                <a:cubicBezTo>
                  <a:pt x="22778" y="8729"/>
                  <a:pt x="22774" y="8873"/>
                  <a:pt x="22696" y="902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34040" y="4197240"/>
            <a:ext cx="1152720" cy="1017720"/>
          </a:xfrm>
          <a:custGeom>
            <a:avLst/>
            <a:gdLst/>
            <a:ahLst/>
            <a:rect l="l" t="t" r="r" b="b"/>
            <a:pathLst>
              <a:path w="3201" h="2829">
                <a:moveTo>
                  <a:pt x="17165" y="11708"/>
                </a:moveTo>
                <a:cubicBezTo>
                  <a:pt x="17165" y="11847"/>
                  <a:pt x="17041" y="11891"/>
                  <a:pt x="17041" y="12030"/>
                </a:cubicBezTo>
                <a:cubicBezTo>
                  <a:pt x="17041" y="12092"/>
                  <a:pt x="17105" y="12190"/>
                  <a:pt x="17115" y="12254"/>
                </a:cubicBezTo>
                <a:cubicBezTo>
                  <a:pt x="17128" y="12334"/>
                  <a:pt x="17144" y="12330"/>
                  <a:pt x="17165" y="12402"/>
                </a:cubicBezTo>
              </a:path>
              <a:path w="3201" h="2829">
                <a:moveTo>
                  <a:pt x="17338" y="11981"/>
                </a:moveTo>
                <a:cubicBezTo>
                  <a:pt x="17459" y="11981"/>
                  <a:pt x="17568" y="11977"/>
                  <a:pt x="17686" y="11956"/>
                </a:cubicBezTo>
                <a:cubicBezTo>
                  <a:pt x="17671" y="12076"/>
                  <a:pt x="17606" y="12187"/>
                  <a:pt x="17562" y="12303"/>
                </a:cubicBezTo>
              </a:path>
              <a:path w="3201" h="2829">
                <a:moveTo>
                  <a:pt x="17983" y="11981"/>
                </a:moveTo>
                <a:cubicBezTo>
                  <a:pt x="18064" y="12082"/>
                  <a:pt x="18144" y="12182"/>
                  <a:pt x="18231" y="12278"/>
                </a:cubicBezTo>
              </a:path>
              <a:path w="3201" h="2829">
                <a:moveTo>
                  <a:pt x="18306" y="11956"/>
                </a:moveTo>
                <a:cubicBezTo>
                  <a:pt x="18235" y="12062"/>
                  <a:pt x="18173" y="12169"/>
                  <a:pt x="18107" y="12278"/>
                </a:cubicBezTo>
              </a:path>
              <a:path w="3201" h="2829">
                <a:moveTo>
                  <a:pt x="18430" y="11832"/>
                </a:moveTo>
                <a:cubicBezTo>
                  <a:pt x="18496" y="11826"/>
                  <a:pt x="18745" y="11750"/>
                  <a:pt x="18752" y="11881"/>
                </a:cubicBezTo>
                <a:cubicBezTo>
                  <a:pt x="18759" y="12030"/>
                  <a:pt x="18691" y="12186"/>
                  <a:pt x="18653" y="12328"/>
                </a:cubicBezTo>
              </a:path>
              <a:path w="3201" h="2829">
                <a:moveTo>
                  <a:pt x="18951" y="11658"/>
                </a:moveTo>
                <a:cubicBezTo>
                  <a:pt x="19137" y="11834"/>
                  <a:pt x="19252" y="12081"/>
                  <a:pt x="19124" y="12353"/>
                </a:cubicBezTo>
                <a:cubicBezTo>
                  <a:pt x="19037" y="12440"/>
                  <a:pt x="19018" y="12464"/>
                  <a:pt x="18951" y="12502"/>
                </a:cubicBezTo>
              </a:path>
              <a:path w="3201" h="2829">
                <a:moveTo>
                  <a:pt x="17785" y="12650"/>
                </a:moveTo>
                <a:cubicBezTo>
                  <a:pt x="17733" y="12728"/>
                  <a:pt x="17715" y="12757"/>
                  <a:pt x="17711" y="12824"/>
                </a:cubicBezTo>
                <a:cubicBezTo>
                  <a:pt x="17930" y="12813"/>
                  <a:pt x="18161" y="12750"/>
                  <a:pt x="18380" y="12774"/>
                </a:cubicBezTo>
                <a:cubicBezTo>
                  <a:pt x="18505" y="12788"/>
                  <a:pt x="18455" y="12622"/>
                  <a:pt x="18455" y="12502"/>
                </a:cubicBezTo>
              </a:path>
              <a:path w="3201" h="2829">
                <a:moveTo>
                  <a:pt x="17884" y="13196"/>
                </a:moveTo>
                <a:cubicBezTo>
                  <a:pt x="17784" y="13435"/>
                  <a:pt x="17757" y="13457"/>
                  <a:pt x="18033" y="13444"/>
                </a:cubicBezTo>
              </a:path>
              <a:path w="3201" h="2829">
                <a:moveTo>
                  <a:pt x="18107" y="13196"/>
                </a:moveTo>
                <a:cubicBezTo>
                  <a:pt x="18063" y="13334"/>
                  <a:pt x="18041" y="13448"/>
                  <a:pt x="18033" y="13593"/>
                </a:cubicBezTo>
              </a:path>
              <a:path w="3201" h="2829">
                <a:moveTo>
                  <a:pt x="18604" y="13171"/>
                </a:moveTo>
                <a:cubicBezTo>
                  <a:pt x="18452" y="13067"/>
                  <a:pt x="18300" y="13094"/>
                  <a:pt x="18231" y="13320"/>
                </a:cubicBezTo>
                <a:cubicBezTo>
                  <a:pt x="18239" y="13345"/>
                  <a:pt x="18248" y="13370"/>
                  <a:pt x="18256" y="13395"/>
                </a:cubicBezTo>
                <a:cubicBezTo>
                  <a:pt x="18411" y="13370"/>
                  <a:pt x="18609" y="13120"/>
                  <a:pt x="18604" y="13370"/>
                </a:cubicBezTo>
                <a:cubicBezTo>
                  <a:pt x="18563" y="13511"/>
                  <a:pt x="18557" y="13536"/>
                  <a:pt x="18529" y="13618"/>
                </a:cubicBezTo>
              </a:path>
              <a:path w="3201" h="2829">
                <a:moveTo>
                  <a:pt x="19372" y="12005"/>
                </a:moveTo>
                <a:cubicBezTo>
                  <a:pt x="19422" y="12040"/>
                  <a:pt x="19379" y="12209"/>
                  <a:pt x="19348" y="12328"/>
                </a:cubicBezTo>
              </a:path>
              <a:path w="3201" h="2829">
                <a:moveTo>
                  <a:pt x="19273" y="12254"/>
                </a:moveTo>
                <a:cubicBezTo>
                  <a:pt x="19400" y="12222"/>
                  <a:pt x="19460" y="12202"/>
                  <a:pt x="19546" y="12154"/>
                </a:cubicBezTo>
              </a:path>
              <a:path w="3201" h="2829">
                <a:moveTo>
                  <a:pt x="19918" y="11931"/>
                </a:moveTo>
                <a:cubicBezTo>
                  <a:pt x="20034" y="11879"/>
                  <a:pt x="20097" y="11843"/>
                  <a:pt x="20216" y="11881"/>
                </a:cubicBezTo>
                <a:cubicBezTo>
                  <a:pt x="20124" y="12007"/>
                  <a:pt x="20033" y="12100"/>
                  <a:pt x="19918" y="12204"/>
                </a:cubicBezTo>
                <a:cubicBezTo>
                  <a:pt x="20022" y="12273"/>
                  <a:pt x="20102" y="12246"/>
                  <a:pt x="20241" y="12229"/>
                </a:cubicBezTo>
              </a:path>
              <a:path w="3201" h="2829">
                <a:moveTo>
                  <a:pt x="19124" y="13171"/>
                </a:moveTo>
                <a:cubicBezTo>
                  <a:pt x="19089" y="13278"/>
                  <a:pt x="19055" y="13385"/>
                  <a:pt x="19025" y="13494"/>
                </a:cubicBezTo>
              </a:path>
              <a:path w="3201" h="2829">
                <a:moveTo>
                  <a:pt x="18951" y="13320"/>
                </a:moveTo>
                <a:cubicBezTo>
                  <a:pt x="19117" y="13292"/>
                  <a:pt x="19184" y="13280"/>
                  <a:pt x="19298" y="13246"/>
                </a:cubicBezTo>
              </a:path>
              <a:path w="3201" h="2829">
                <a:moveTo>
                  <a:pt x="19571" y="13146"/>
                </a:moveTo>
                <a:cubicBezTo>
                  <a:pt x="19647" y="13123"/>
                  <a:pt x="19716" y="13105"/>
                  <a:pt x="19794" y="13097"/>
                </a:cubicBezTo>
                <a:cubicBezTo>
                  <a:pt x="19758" y="13254"/>
                  <a:pt x="19669" y="13309"/>
                  <a:pt x="19546" y="13419"/>
                </a:cubicBezTo>
                <a:cubicBezTo>
                  <a:pt x="19683" y="13413"/>
                  <a:pt x="19808" y="13398"/>
                  <a:pt x="19943" y="13370"/>
                </a:cubicBezTo>
              </a:path>
              <a:path w="3201" h="2829">
                <a:moveTo>
                  <a:pt x="18802" y="13667"/>
                </a:moveTo>
                <a:cubicBezTo>
                  <a:pt x="18781" y="13751"/>
                  <a:pt x="18761" y="13830"/>
                  <a:pt x="18752" y="13915"/>
                </a:cubicBezTo>
                <a:cubicBezTo>
                  <a:pt x="18974" y="13861"/>
                  <a:pt x="19216" y="13787"/>
                  <a:pt x="19447" y="13791"/>
                </a:cubicBezTo>
                <a:cubicBezTo>
                  <a:pt x="19661" y="13795"/>
                  <a:pt x="19565" y="13832"/>
                  <a:pt x="19596" y="13618"/>
                </a:cubicBezTo>
              </a:path>
              <a:path w="3201" h="2829">
                <a:moveTo>
                  <a:pt x="19248" y="14039"/>
                </a:moveTo>
                <a:cubicBezTo>
                  <a:pt x="19059" y="14039"/>
                  <a:pt x="19084" y="14008"/>
                  <a:pt x="19000" y="14163"/>
                </a:cubicBezTo>
                <a:cubicBezTo>
                  <a:pt x="19119" y="14195"/>
                  <a:pt x="19268" y="14205"/>
                  <a:pt x="19273" y="14362"/>
                </a:cubicBezTo>
                <a:cubicBezTo>
                  <a:pt x="19281" y="14591"/>
                  <a:pt x="18978" y="14431"/>
                  <a:pt x="18901" y="14387"/>
                </a:cubicBezTo>
                <a:cubicBezTo>
                  <a:pt x="18704" y="14274"/>
                  <a:pt x="18957" y="14374"/>
                  <a:pt x="19000" y="14387"/>
                </a:cubicBezTo>
              </a:path>
              <a:path w="3201" h="2829">
                <a:moveTo>
                  <a:pt x="19571" y="14039"/>
                </a:moveTo>
                <a:cubicBezTo>
                  <a:pt x="19562" y="14174"/>
                  <a:pt x="19553" y="14331"/>
                  <a:pt x="19521" y="14461"/>
                </a:cubicBezTo>
                <a:cubicBezTo>
                  <a:pt x="19521" y="14445"/>
                  <a:pt x="19521" y="14428"/>
                  <a:pt x="19521" y="144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it Ti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 the exit ticket passed out in cla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rn it in to the in-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finishers may begin tonight’s 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orksh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09-15T17:48:01Z</dcterms:modified>
  <cp:revision>55</cp:revision>
  <dc:subject/>
  <dc:title>Unit 1 – Variables and Equations </dc:title>
</cp:coreProperties>
</file>